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</p:sldMasterIdLst>
  <p:sldIdLst>
    <p:sldId id="256" r:id="rId22"/>
    <p:sldId id="257" r:id="rId23"/>
    <p:sldId id="258" r:id="rId24"/>
    <p:sldId id="259" r:id="rId25"/>
    <p:sldId id="260" r:id="rId26"/>
    <p:sldId id="261" r:id="rId27"/>
    <p:sldId id="262" r:id="rId28"/>
    <p:sldId id="263" r:id="rId29"/>
    <p:sldId id="264" r:id="rId30"/>
    <p:sldId id="265" r:id="rId31"/>
    <p:sldId id="266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" Target="slides/slide1.xml"/><Relationship Id="rId23" Type="http://schemas.openxmlformats.org/officeDocument/2006/relationships/slide" Target="slides/slide2.xml"/><Relationship Id="rId24" Type="http://schemas.openxmlformats.org/officeDocument/2006/relationships/slide" Target="slides/slide3.xml"/><Relationship Id="rId25" Type="http://schemas.openxmlformats.org/officeDocument/2006/relationships/slide" Target="slides/slide4.xml"/><Relationship Id="rId26" Type="http://schemas.openxmlformats.org/officeDocument/2006/relationships/slide" Target="slides/slide5.xml"/><Relationship Id="rId27" Type="http://schemas.openxmlformats.org/officeDocument/2006/relationships/slide" Target="slides/slide6.xml"/><Relationship Id="rId28" Type="http://schemas.openxmlformats.org/officeDocument/2006/relationships/slide" Target="slides/slide7.xml"/><Relationship Id="rId29" Type="http://schemas.openxmlformats.org/officeDocument/2006/relationships/slide" Target="slides/slide8.xml"/><Relationship Id="rId30" Type="http://schemas.openxmlformats.org/officeDocument/2006/relationships/slide" Target="slides/slide9.xml"/><Relationship Id="rId31" Type="http://schemas.openxmlformats.org/officeDocument/2006/relationships/slide" Target="slides/slide10.xml"/><Relationship Id="rId32" Type="http://schemas.openxmlformats.org/officeDocument/2006/relationships/slide" Target="slides/slide11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F67264-4503-4A31-956F-004FCE7F5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C6F312-8D1F-43B1-BFC6-A55234E35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6D05D26-10BD-49F4-8315-02AC3D8BA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0D55AEB-1CB9-407A-A345-D847FA76E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324A4C5-4584-4AFB-9C63-273C2BA59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5A31016-EB2B-40EE-9606-5E3DAE157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16B84EC-610F-4552-8695-EFABEB0BC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210A00C-BC5E-47EB-8F6A-A5BD78763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5AEEE84-FBD6-494D-BDD0-4E85F3C93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578960F-EF7D-4211-8780-85FC5A00E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2E12B47-24CE-48E7-AB2E-DB51C4E29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DB2411-47FD-463B-85CB-ECACD4098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75EBD5-F9AA-4A44-A1B0-CCD4C5F5C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0AF2FD-8071-4424-9365-3ACCD026A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F0405F-A088-4B59-B2CF-8CD399291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5FF18C-D19E-492A-93FF-57E633F63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9E5911-FECB-42E7-A1BD-9F3D84F3A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F2E146-6C66-4B53-A85C-88B2D37D0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29037E-F22E-491C-BA0A-6B451A77A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7FDAD2-48A9-4FA8-A583-BD44EB7D2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6FF680-9DFA-4078-BE4A-83759C75C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8C7332-8C30-4565-8437-EB5D6C74D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B94464-EBC9-466B-A788-87E5026B4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466344-F4F0-42D5-B53F-516631C69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DFA341-EBB7-4A0E-898E-E49F47AB8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E75BDF-5A5D-4DAF-860D-BFC9F0CF8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B8CEC1-0524-4F30-B1B2-B643083A3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064110-8849-4B3C-950B-4759B6AD7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D0E9EE-0BB1-434C-B8FE-FE74AB256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0A7A93-2512-40D6-A31D-81749D623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DE8A2C-BCF5-456A-8782-C870A38B4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84D013-CA63-4C64-8B37-039E0FB69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52C25C-8D42-4B5D-A75B-E3C593309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2898D2-C790-4699-A81F-B1A70BB9A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A158C-B97A-478F-B18A-EE2483A3E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6FDA30-11D7-45C2-8346-42674806B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CBF641-35F4-4DE1-88D0-E4F802E1D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6AFE11-E867-4347-97BA-FA7EA67C6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8BC56B3-9BA4-45AD-A854-07E49C064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0F31E14-F1C0-4A48-B2A7-A91F5337D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8D156B7-8A1C-40E4-B04E-63FCD99E4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00BB870-645D-4EDB-BD3E-350F315FE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F6158B5-30B8-445F-8C65-972E7BA02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C5DC2EA-1C70-468B-BBAF-AC20704F0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6001E22-C463-4881-8E66-BDC672E70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9C3DF-7C7C-41C5-B4E7-F96FCBCAA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A843C32-4591-4B39-9413-3CC239A70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4CFAD0E-F010-4957-9DA2-E2A706753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8399DA1-5C8C-4DC8-9F67-DE5B6DA7F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A5566E6-B8E2-4265-85FD-8263F4D91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DC10AE2-DB1F-4EC4-8FA2-9EAFD6E3A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82FA1B6-A542-4CF6-A160-D986749A6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8540458-2454-4EC5-BC1F-83466FAE4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15A7149-F07F-411D-89B5-0AAE1B02B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CBAA1D0-F704-4CC3-82B7-EED268610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140D92F-9B95-462A-9F1A-E754516D8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5F7FB-B1B1-42F1-8CB6-B4644DE04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EA1B31C-BA74-436E-B71A-CE1F28544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1280197-90E8-43E0-8029-D1E378E17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4A51DC9-9225-4B5D-B616-EDA70974A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7F7FB60-C2D7-4E24-93EC-155369F0F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6E503FC-FB2A-4DF7-9815-5AD28E301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10781A6-192D-4F09-83BD-3F9749DAC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4758FD0-C7DA-490A-9C8E-B8F830309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7C98BFC-4CCD-40FF-865A-722388A30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B73DCF1-D2D7-4643-9508-CD9B2E8CA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195CB45-F618-4A34-8C6F-321FCBF5E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218AC-6443-48B2-9E19-59C7E206F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0F312CD-1A23-4BD3-BAFA-5D5C87BD6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B8E1A73-830D-4DA9-A244-B2BCF8CCF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38CAA19-5309-403C-BF80-94DBE63E2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D69B6D9-EDD3-45BB-8CF1-2CB90F3C8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8CCBF0E-4845-4AFA-B305-2937C2967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765454A-707D-42F5-82B5-E26E77F15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B24B728-CE39-4238-9634-3029C5091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E3DA689-A5F3-47D9-B888-9B4B2BCC1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4B4465B-5C6F-45A4-8F4A-41F80E69D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26144011-42C0-4434-AF43-789AB7371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9201D-AE10-4D26-A723-35689AB62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55274E77-89C0-4983-96D5-4460E817C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B8525CF1-362E-44B0-A90A-16216908F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B3A12595-ADE2-46C1-9CC3-24BD734B5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B729E797-7099-45C1-98F6-FBB13876A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C3D09784-A1EC-4039-912A-F9B22A754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AACF5B96-64BF-4CA9-8F37-E24F7D5BD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278CF6BC-80D4-417F-91BD-BE08331BF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B9E20263-4170-4702-9E38-2A79D0506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41D3E44F-2058-47FD-9D39-18BDB0DE7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BF750757-F333-4C9D-B16D-1DA485C85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F1720-1C0E-4789-8437-CAC5C7FA5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9F29EFA9-788F-4A71-A97E-816DEF238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065914A-4F22-403A-A28D-D6A90A8DE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3DFB752-CB40-4410-8824-03BA6B9A3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7EB5618-43E8-4B17-B31C-FA89CCE52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F3AA16F-2E7C-4CB6-A935-489CE8CAB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6B49E77-A4C1-4E68-B15A-63025E29A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9CF469D-4AF9-455F-9C9B-1F4B17595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0578F35-058B-4286-9179-902A78F04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9F378E9-FC28-4B23-A566-9E8F45542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915C6AD-A700-4A25-9977-2A52CD83B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9A0D8-B9DF-4CAE-A8A4-0661C1B11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A046A92-F707-4049-82C3-50170CEF6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D1A792F-DE71-4A6B-A1AF-FBB59EBDA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35B88CE-D9C2-4DA8-85E1-9230CFC4C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57A197E-2907-4544-A843-F8DAC77C6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9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5C6C284-AD96-4940-A3A3-6540E84A0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1258248-6058-4BAD-819E-600B0F195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0DCE2E1-8EB0-4D8D-8A11-3B91944DA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FDC6164-B844-4A51-9774-E97F5E31D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D1F1583-3D8F-43E5-9DF1-FA31B20DA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47FEF91-BBFD-422A-9971-64D09BCA9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FD8A46-A145-4DFF-AC94-4773A92DC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68789-129E-423C-98F3-C51F4ECDC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5A2D0AE-A804-4714-9877-644EEEE35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737035B-9BB9-414A-BA93-8FAD6F593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962A274-63CD-4410-8690-A33290EE7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20D8095-4371-41FE-B1F5-AC9345D6E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C465856-0BC2-4810-BC43-7A4675FAE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729ED7D-F9ED-45DE-B9A0-C537F0CD0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6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5D66EBD-6B73-4EA6-BB68-4631B566B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F67C6CC-B7DF-46A3-A384-B12021A1C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C5B7975-9A64-4CD8-BCBD-11322EE7E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AA5AD53-55F1-443D-A24E-B11852E7E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1D328-FCB5-4B46-B51C-7B7EF8F18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67A1E9E-A990-48EF-9B76-7D34503FC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BD5DFB0-BB56-4136-9DA7-5C5CCE3B5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E4E2F5C-E128-4631-B9D7-DDD26B73E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E97152E-26F6-4EB1-BCE7-DC46BFDEB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0AC156E-1ECF-4D7F-B838-8CBC5A87B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958B40F-E224-4520-8BD9-F023CF81F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02187D5-8F49-42A0-A058-5FB99BF67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A03A54D-4968-49B4-A2EF-56A468990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FBE9D40-8968-40F2-AEDB-796D377EF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5B2FC81-79CA-48C7-A5E3-EE4A39637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29947-C091-4CB9-8ED4-112138D50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AEE3E2E-B4DD-4170-9418-89B287D53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525525E-F1BF-43E6-BA77-2C88F4B84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D59EBC8-6EB5-4B29-BF76-CB3A4604B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59D5943-97AD-4DD8-9D78-5446B3121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5F1D21A-2945-411B-A7D1-070510C0E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75629E3-1100-4F30-8BD3-475A9F9BD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F3A6C2C-FAD7-4AB3-B8C3-9B9D85E89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E81F000-4F43-4B90-8838-0795DA049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8036B72-80E7-444A-A53C-0BA89A5C8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5A4D150-6323-44CC-8BAC-A0DEBBE9A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E4373-A9BE-490A-88C9-D1398B6D7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5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B34FADD-9B16-4832-B877-9E312FC46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772BD93-E00D-44A7-A8AB-63106302B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83A5120-7C83-4674-A7E8-DA3F8FEFB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E32E74E-9B62-41CC-B0E8-E7FD28524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7C30DF5-5201-4317-86AF-AA8151861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B31F9DE-E399-4F00-BAAE-14B31EF8B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F9BA91C-426B-401D-A958-4CE896F42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A9482FE-0B5F-4BF7-85A2-7438F7AC5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E9C86D6-FD36-4687-9FB1-B0922447F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887046F-D7E0-45E0-A2D8-E819B0FBF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DAE4F-5831-4966-96D4-D46CB0EFA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695CFED-986E-4A1C-AD8B-752EA09BA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2B6D55-0A8E-42FD-B5E9-9CDA39611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822435-122B-4C1F-8E79-4E766BA48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F83C89-D1A5-4CAF-8376-E28577FB6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4E3D2A-5002-4C33-B32B-560B4A315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0885D9-FDA6-4E8F-B8F9-0C37074F9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17D95B-C181-4448-B085-F6A68028B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9B67CF-2E35-4903-B86C-855FD68CC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006951-2EF6-4D8B-8260-748CC9170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A64A04-211A-49C0-B37A-9FE89D961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FB193C-06A4-4684-98B0-F9F4A9B1D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12DF7F-E600-4207-8C2E-C8970BC96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D49603-8785-40C3-ACA1-E3E46680C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31FC9A-EE95-4B12-B0B0-316733669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FFD3A36-A53E-4F73-AD56-92D162CCC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951CC22-1E03-4CF4-84C2-950231930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0950069-8424-4D80-A5CA-97D743254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DF2C2B-BFEA-409D-A7E0-2336D658D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B509C3F-C2C8-4FC5-BF0A-2A99EB9C3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DFA579F-6725-4D30-B523-46EDA3E31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9213485-B4B3-4C41-A954-BFBE792AE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D95D1C1-E19A-47CA-90B6-11EC1E397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99091A6-A03B-4114-B17C-3518971E3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2CEFECE-15BA-4338-9E5D-D81A48DBB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31B9D9D-94FB-4BEF-A1CF-7FE247388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C7DA6F1-DABA-434C-AD98-378648A9F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7F27BA8-1AE8-4666-B579-3B2C87610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04E43F-7C84-48FC-89FF-78A3B4CEA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DD3C18-D157-495F-B425-AB79AD759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4EB810-2077-419A-88C8-F6475CC0C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6C02E8-1E93-4FCA-B34A-9B074815B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972F36-9D02-4FDB-A9A5-E045149BD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AD44F3-523B-4CD0-B7A4-4739F8931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BC478C-77E8-4AAE-8468-26CFC0D83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E8486D-B6A4-40F8-9511-5F413080D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547FE3-445F-45BA-BD23-4B3D6ECB9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30E403-0D32-4234-8F10-B3A8EE053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EAAA82-3CB8-4500-A727-49437BB83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8D3A6A-0D1E-4EC6-98E3-E8B6C727B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ED9B42-0C4A-42A2-A753-91AD37807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A1A279-5E17-4ECE-B164-D9815E008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A4E833-51B9-4829-B48B-D468225E6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11C704-9FBE-4095-A8D6-2A934D6B6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3099E6-CB9D-4D97-9719-BA4D388CC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387680-593C-4FB8-8667-EA3E05E3B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554BE4-BA9E-48B2-995B-74F67E9E3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AF1620-7F1F-4328-A06E-223AE075B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9C433B-926B-4F20-9B76-BFCA9F708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0F4E88-2B87-4588-8774-09F9F35EB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D6923D-87EF-4897-B31F-36B7880AE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8413A6-CB87-4542-93F4-467DE2520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66A51A-AE2E-40EE-9378-3691C1449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A33BA0-73C4-45A0-9F99-008B3F5BF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DDF9B1-DB77-4AF7-A03D-868DC774E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C1E728-332C-4BF0-B527-833584018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B34E55-95BA-46E7-AA8E-3FF265C06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7DFB34-E3DA-4CA2-97C4-061B65053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BE0B89-C2CF-4972-A214-D8AC9C208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F094FC-BE55-4FE9-9806-C6579A541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F9F5BA-E95A-4E8E-A59C-83A3A7A0D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08EF3B-F652-40AC-9474-338FA16EF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D6AAC8-EE06-4E78-99B6-9E6A25807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F1A4F9-20F5-4898-9B1A-4F752EA43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A26EF2-A0E6-43EB-9953-138D006D5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DB153D-5479-4718-82FD-9DFFA2095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17C5AF-67C1-4F26-BE86-46FB79A04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CF0BE4-0F5A-44B6-8E3A-9B9FB1108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47C6A7-0073-410C-82E9-32581B429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B01229-A3EF-43A5-82D7-72D7E6A0B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56FBD1-D2FD-4C87-9597-5D0BDB2AD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758DAC-66D1-4878-9CF3-DF7A20328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0A494E-16BE-40BB-B8A7-41AB50CAC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76D6EC-0E45-4FCB-A04D-D1378CFB1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5559B9-C47C-40EB-8168-131EDB550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B6C5FC-6711-4589-BB6B-8D79F47C4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BC25DA-5E01-4868-A984-3DC9C387A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6100C2-30A5-458B-932D-DE4175670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17A203-90B3-4991-BA1F-DB36E422B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AE3C10-1737-4FE3-9E8B-36D334B8E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0E3957-B388-4853-AF13-B4A4BEC78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040E616-5256-4615-B18F-C76E1C5D8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C321C39-FC42-4E93-9F3E-026E090D6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47EBB73-43F9-4333-A0BC-39FD63E38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69.xml"/><Relationship Id="rId8" Type="http://schemas.openxmlformats.org/officeDocument/2006/relationships/slideLayout" Target="../slideLayouts/slideLayout170.xml"/><Relationship Id="rId9" Type="http://schemas.openxmlformats.org/officeDocument/2006/relationships/slideLayout" Target="../slideLayouts/slideLayout171.xml"/><Relationship Id="rId10" Type="http://schemas.openxmlformats.org/officeDocument/2006/relationships/slideLayout" Target="../slideLayouts/slideLayout172.xml"/><Relationship Id="rId11" Type="http://schemas.openxmlformats.org/officeDocument/2006/relationships/slideLayout" Target="../slideLayouts/slideLayout173.xml"/><Relationship Id="rId12" Type="http://schemas.openxmlformats.org/officeDocument/2006/relationships/slideLayout" Target="../slideLayouts/slideLayout174.xml"/><Relationship Id="rId13" Type="http://schemas.openxmlformats.org/officeDocument/2006/relationships/slideLayout" Target="../slideLayouts/slideLayout175.xml"/><Relationship Id="rId14" Type="http://schemas.openxmlformats.org/officeDocument/2006/relationships/slideLayout" Target="../slideLayouts/slideLayout176.xml"/><Relationship Id="rId15" Type="http://schemas.openxmlformats.org/officeDocument/2006/relationships/slideLayout" Target="../slideLayouts/slideLayout177.xml"/><Relationship Id="rId16" Type="http://schemas.openxmlformats.org/officeDocument/2006/relationships/slideLayout" Target="../slideLayouts/slideLayout178.xml"/><Relationship Id="rId17" Type="http://schemas.openxmlformats.org/officeDocument/2006/relationships/slideLayout" Target="../slideLayouts/slideLayout179.xml"/><Relationship Id="rId18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C48BA-B3C2-4CD0-A658-CF054CA8CED5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3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454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55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60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dt" idx="28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 type="ftr" idx="29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 type="sldNum" idx="30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C7B72-6224-420C-86AF-80CE6FDDA8C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03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05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06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07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8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509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4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15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16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481DC-C300-4F42-9C77-C93B874D2B4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3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564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66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67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568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69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70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5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6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77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 type="sldNum" idx="3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C4FD0-0532-4513-9D18-5FE9B071C94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 type="ftr" idx="3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3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24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8515E-93F6-4445-9053-400F207F3A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3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84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dt" idx="4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 type="sldNum" idx="4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E8716-8C68-4A22-AC72-83B772D34F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2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743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5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0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1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2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3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7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4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5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58" name="PlaceHolder 1"/>
          <p:cNvSpPr>
            <a:spLocks noGrp="1"/>
          </p:cNvSpPr>
          <p:nvPr>
            <p:ph type="sldNum" idx="4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C7FE7-4AFE-48C2-A0BD-38005943D8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 type="dt" idx="4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 type="ftr" idx="4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2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7"/>
    <p:sldLayoutId id="2147483832" r:id="rId8"/>
    <p:sldLayoutId id="2147483833" r:id="rId9"/>
    <p:sldLayoutId id="2147483834" r:id="rId10"/>
    <p:sldLayoutId id="2147483835" r:id="rId11"/>
    <p:sldLayoutId id="2147483836" r:id="rId12"/>
    <p:sldLayoutId id="2147483837" r:id="rId13"/>
    <p:sldLayoutId id="2147483838" r:id="rId14"/>
    <p:sldLayoutId id="2147483839" r:id="rId15"/>
    <p:sldLayoutId id="2147483840" r:id="rId16"/>
    <p:sldLayoutId id="2147483841" r:id="rId17"/>
    <p:sldLayoutId id="2147483842" r:id="rId18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9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1000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1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2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3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4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5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6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7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8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9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0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1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2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3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4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5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6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7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8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0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1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2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3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4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5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6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7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8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9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0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1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 type="dt" idx="4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 type="ftr" idx="4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PlaceHolder 4"/>
          <p:cNvSpPr>
            <a:spLocks noGrp="1"/>
          </p:cNvSpPr>
          <p:nvPr>
            <p:ph type="sldNum" idx="4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A1921-E775-4B65-B726-19F6D08588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5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256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1257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8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59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1260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1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62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1263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4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65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266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67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68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69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270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271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2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73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274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5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76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1277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8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79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1280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1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2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1283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4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5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1286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7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8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1289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0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91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1292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3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94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1295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6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97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1298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9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00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1301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2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03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1304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5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06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1307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8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09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1310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1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12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1313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4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15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1316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7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18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1319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0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21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1322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3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24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1325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6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27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1328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9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30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1331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2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3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34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335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1336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7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38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1339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0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41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1342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3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44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1345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6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47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1348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9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50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1351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2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53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1354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5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56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357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8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59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360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1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62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363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4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65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366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7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368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9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0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1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2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3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4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5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6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7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8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9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0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1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2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3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4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5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6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7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8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9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9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9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92" name="PlaceHolder 3"/>
          <p:cNvSpPr>
            <a:spLocks noGrp="1"/>
          </p:cNvSpPr>
          <p:nvPr>
            <p:ph type="dt" idx="4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3" name="PlaceHolder 4"/>
          <p:cNvSpPr>
            <a:spLocks noGrp="1"/>
          </p:cNvSpPr>
          <p:nvPr>
            <p:ph type="ftr" idx="5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4" name="PlaceHolder 5"/>
          <p:cNvSpPr>
            <a:spLocks noGrp="1"/>
          </p:cNvSpPr>
          <p:nvPr>
            <p:ph type="sldNum" idx="5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09508-0B3A-4B34-8ED2-AC2813B70F8E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1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432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433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4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435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436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437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438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9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40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441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442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43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44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445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46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47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448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49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50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451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52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53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454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55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56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1457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58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59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1460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61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62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1463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64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65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1466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67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68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1469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70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71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1472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73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74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1475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76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77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1478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79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80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1481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82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83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1484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85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86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1487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88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89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1490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91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92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1493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94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95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1496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97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98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1499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00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01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1502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03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504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5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506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1507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08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09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1510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11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12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1513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14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15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1516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17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18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1519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20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21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1522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23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24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1525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26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27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1528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29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30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1531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32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33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1534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35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36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1537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38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1539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1540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1541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2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3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4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5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6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7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8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49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1550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1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2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3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4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5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6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7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8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9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0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1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2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3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64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65" name="PlaceHolder 2"/>
          <p:cNvSpPr>
            <a:spLocks noGrp="1"/>
          </p:cNvSpPr>
          <p:nvPr>
            <p:ph type="dt" idx="5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6" name="PlaceHolder 3"/>
          <p:cNvSpPr>
            <a:spLocks noGrp="1"/>
          </p:cNvSpPr>
          <p:nvPr>
            <p:ph type="ftr" idx="5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7" name="PlaceHolder 4"/>
          <p:cNvSpPr>
            <a:spLocks noGrp="1"/>
          </p:cNvSpPr>
          <p:nvPr>
            <p:ph type="sldNum" idx="5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7419E-F034-43EE-A8AB-81E0CBE91074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04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605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9" name="PlaceHolder 3"/>
          <p:cNvSpPr>
            <a:spLocks noGrp="1"/>
          </p:cNvSpPr>
          <p:nvPr>
            <p:ph type="dt" idx="5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0" name="PlaceHolder 4"/>
          <p:cNvSpPr>
            <a:spLocks noGrp="1"/>
          </p:cNvSpPr>
          <p:nvPr>
            <p:ph type="ftr" idx="5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1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60F7D-D447-4953-9D10-8802F8D72991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42895-2AD9-4861-891B-C378D7F8FD1F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48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1649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51" name="PlaceHolder 1"/>
          <p:cNvSpPr>
            <a:spLocks noGrp="1"/>
          </p:cNvSpPr>
          <p:nvPr>
            <p:ph type="dt" idx="5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2" name="PlaceHolder 2"/>
          <p:cNvSpPr>
            <a:spLocks noGrp="1"/>
          </p:cNvSpPr>
          <p:nvPr>
            <p:ph type="ftr" idx="5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3" name="PlaceHolder 3"/>
          <p:cNvSpPr>
            <a:spLocks noGrp="1"/>
          </p:cNvSpPr>
          <p:nvPr>
            <p:ph type="sldNum" idx="6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132E7-E572-4008-BEF2-D425FCD9198B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4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E9A9A-1E70-46B8-B460-F28098375B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ftr" idx="1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1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9555D-D993-4614-83F5-2EEE31B31B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dt" idx="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8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209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7" name="PlaceHolder 1"/>
          <p:cNvSpPr>
            <a:spLocks noGrp="1"/>
          </p:cNvSpPr>
          <p:nvPr>
            <p:ph type="dt" idx="13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ftr" idx="14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sldNum" idx="15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76339-768F-413F-A592-6A9DA6EA16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8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259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dt" idx="16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ftr" idx="17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18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1664F-793C-43BD-A27D-FFAA25CCCB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19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ftr" idx="20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sldNum" idx="21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4FC78-2A97-49B0-B576-1862FF441CF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3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354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355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57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358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60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dt" idx="22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 type="ftr" idx="23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 type="sldNum" idx="24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4077C-3BA6-44A1-BD44-C69F6CEF382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dt" idx="25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ldNum" idx="26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A5041-32E8-41CC-A3FD-8A307F10EB5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05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406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07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12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14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 type="ftr" idx="27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9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7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1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7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9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2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4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Mi impresionante Mansi</a:t>
            </a:r>
            <a:r>
              <a:rPr b="0" lang="en-US" sz="4800" spc="-1" strike="noStrike">
                <a:solidFill>
                  <a:srgbClr val="ffffcc"/>
                </a:solidFill>
                <a:latin typeface="Tahoma"/>
                <a:ea typeface="Tahoma"/>
              </a:rPr>
              <a:t>ó</a:t>
            </a: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n!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r: Samantha Schultz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10000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Es un garaj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721" name="" descr=""/>
          <p:cNvPicPr/>
          <p:nvPr/>
        </p:nvPicPr>
        <p:blipFill>
          <a:blip r:embed="rId1"/>
          <a:stretch/>
        </p:blipFill>
        <p:spPr>
          <a:xfrm>
            <a:off x="2133720" y="3200400"/>
            <a:ext cx="5333760" cy="2936880"/>
          </a:xfrm>
          <a:prstGeom prst="rect">
            <a:avLst/>
          </a:prstGeom>
          <a:ln w="0">
            <a:noFill/>
          </a:ln>
        </p:spPr>
      </p:pic>
      <p:sp>
        <p:nvSpPr>
          <p:cNvPr id="1722" name=""/>
          <p:cNvSpPr/>
          <p:nvPr/>
        </p:nvSpPr>
        <p:spPr>
          <a:xfrm>
            <a:off x="1752480" y="2133720"/>
            <a:ext cx="403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s nuevo y estupendo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sh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ffffcc"/>
                </a:solidFill>
                <a:latin typeface="Tahoma"/>
              </a:rPr>
              <a:t>gracias!</a:t>
            </a: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! </a:t>
            </a:r>
            <a:r>
              <a:rPr b="0" lang="en-US" sz="4200" spc="-1" strike="noStrike">
                <a:solidFill>
                  <a:srgbClr val="ffffcc"/>
                </a:solidFill>
                <a:latin typeface="Wingdings"/>
                <a:ea typeface="Wingdings"/>
              </a:rPr>
              <a:t>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s-ES" sz="3600" spc="-1" strike="noStrike">
                <a:solidFill>
                  <a:srgbClr val="ffffff"/>
                </a:solidFill>
                <a:latin typeface="Tahoma"/>
              </a:rPr>
              <a:t>Adiós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!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Mi Mans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i mansi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ó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 es grande y bella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95" name="" descr=""/>
          <p:cNvPicPr/>
          <p:nvPr/>
        </p:nvPicPr>
        <p:blipFill>
          <a:blip r:embed="rId2"/>
          <a:stretch/>
        </p:blipFill>
        <p:spPr>
          <a:xfrm>
            <a:off x="2286000" y="2973240"/>
            <a:ext cx="4343400" cy="2889360"/>
          </a:xfrm>
          <a:prstGeom prst="rect">
            <a:avLst/>
          </a:prstGeom>
          <a:ln w="0">
            <a:noFill/>
          </a:ln>
        </p:spPr>
      </p:pic>
    </p:spTree>
  </p:cSld>
  <p:transition advTm="10000">
    <p:checke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Es una cocina 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1697" name="" descr=""/>
          <p:cNvPicPr/>
          <p:nvPr/>
        </p:nvPicPr>
        <p:blipFill>
          <a:blip r:embed="rId1"/>
          <a:stretch/>
        </p:blipFill>
        <p:spPr>
          <a:xfrm>
            <a:off x="2057400" y="2941560"/>
            <a:ext cx="4419720" cy="2438640"/>
          </a:xfrm>
          <a:prstGeom prst="rect">
            <a:avLst/>
          </a:prstGeom>
          <a:ln w="0">
            <a:noFill/>
          </a:ln>
        </p:spPr>
      </p:pic>
      <p:sp>
        <p:nvSpPr>
          <p:cNvPr id="1698" name=""/>
          <p:cNvSpPr/>
          <p:nvPr/>
        </p:nvSpPr>
        <p:spPr>
          <a:xfrm>
            <a:off x="1828800" y="2590920"/>
            <a:ext cx="66294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9" name=""/>
          <p:cNvSpPr/>
          <p:nvPr/>
        </p:nvSpPr>
        <p:spPr>
          <a:xfrm>
            <a:off x="380880" y="2057400"/>
            <a:ext cx="624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s lujosa y bonita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0000">
    <p:cover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Es un comedor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701" name="" descr=""/>
          <p:cNvPicPr/>
          <p:nvPr/>
        </p:nvPicPr>
        <p:blipFill>
          <a:blip r:embed="rId1"/>
          <a:stretch/>
        </p:blipFill>
        <p:spPr>
          <a:xfrm>
            <a:off x="1266840" y="2895480"/>
            <a:ext cx="5349960" cy="2922840"/>
          </a:xfrm>
          <a:prstGeom prst="rect">
            <a:avLst/>
          </a:prstGeom>
          <a:ln w="0">
            <a:noFill/>
          </a:ln>
        </p:spPr>
      </p:pic>
      <p:sp>
        <p:nvSpPr>
          <p:cNvPr id="1702" name=""/>
          <p:cNvSpPr/>
          <p:nvPr/>
        </p:nvSpPr>
        <p:spPr>
          <a:xfrm>
            <a:off x="533520" y="1828800"/>
            <a:ext cx="556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s magn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í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co y antiguo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0000">
    <p:comb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Es una sala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04" name=""/>
          <p:cNvSpPr/>
          <p:nvPr/>
        </p:nvSpPr>
        <p:spPr>
          <a:xfrm>
            <a:off x="609480" y="1828800"/>
            <a:ext cx="464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s c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ó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do y lujos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5" name="" descr=""/>
          <p:cNvPicPr/>
          <p:nvPr/>
        </p:nvPicPr>
        <p:blipFill>
          <a:blip r:embed="rId1"/>
          <a:stretch/>
        </p:blipFill>
        <p:spPr>
          <a:xfrm>
            <a:off x="2246400" y="3610080"/>
            <a:ext cx="4375080" cy="2289240"/>
          </a:xfrm>
          <a:prstGeom prst="rect">
            <a:avLst/>
          </a:prstGeom>
          <a:ln w="0">
            <a:noFill/>
          </a:ln>
        </p:spPr>
      </p:pic>
    </p:spTree>
  </p:cSld>
  <p:transition spd="slow">
    <p:comb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s un ba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  <a:ea typeface="Arial"/>
              </a:rPr>
              <a:t>ñ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s bello y antigu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8" name="" descr=""/>
          <p:cNvPicPr/>
          <p:nvPr/>
        </p:nvPicPr>
        <p:blipFill>
          <a:blip r:embed="rId1"/>
          <a:stretch/>
        </p:blipFill>
        <p:spPr>
          <a:xfrm>
            <a:off x="1905120" y="3200400"/>
            <a:ext cx="4572000" cy="31100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s un cuarto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s moderno y incredi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11" name="" descr=""/>
          <p:cNvPicPr/>
          <p:nvPr/>
        </p:nvPicPr>
        <p:blipFill>
          <a:blip r:embed="rId1"/>
          <a:stretch/>
        </p:blipFill>
        <p:spPr>
          <a:xfrm>
            <a:off x="1752480" y="2743200"/>
            <a:ext cx="4419720" cy="319716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Es un patio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 bello y bonito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14" name="" descr=""/>
          <p:cNvPicPr/>
          <p:nvPr/>
        </p:nvPicPr>
        <p:blipFill>
          <a:blip r:embed="rId1"/>
          <a:stretch/>
        </p:blipFill>
        <p:spPr>
          <a:xfrm>
            <a:off x="2286000" y="236232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Es un jard</a:t>
            </a:r>
            <a:r>
              <a:rPr b="1" lang="en-US" sz="4400" spc="-1" strike="noStrike">
                <a:solidFill>
                  <a:srgbClr val="feec94"/>
                </a:solidFill>
                <a:latin typeface="Times New Roman"/>
                <a:ea typeface="Arial"/>
              </a:rPr>
              <a:t>í</a:t>
            </a: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n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s grande y muy bell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17" name="" descr=""/>
          <p:cNvPicPr/>
          <p:nvPr/>
        </p:nvPicPr>
        <p:blipFill>
          <a:blip r:embed="rId1"/>
          <a:stretch/>
        </p:blipFill>
        <p:spPr>
          <a:xfrm>
            <a:off x="2819520" y="3429000"/>
            <a:ext cx="3657600" cy="2703600"/>
          </a:xfrm>
          <a:prstGeom prst="rect">
            <a:avLst/>
          </a:prstGeom>
          <a:ln w="0">
            <a:noFill/>
          </a:ln>
        </p:spPr>
      </p:pic>
      <p:pic>
        <p:nvPicPr>
          <p:cNvPr id="1718" name="" descr=""/>
          <p:cNvPicPr/>
          <p:nvPr/>
        </p:nvPicPr>
        <p:blipFill>
          <a:blip r:embed="rId2"/>
          <a:stretch/>
        </p:blipFill>
        <p:spPr>
          <a:xfrm>
            <a:off x="6172200" y="228600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1719" name="" descr=""/>
          <p:cNvPicPr/>
          <p:nvPr/>
        </p:nvPicPr>
        <p:blipFill>
          <a:blip r:embed="rId3"/>
          <a:stretch/>
        </p:blipFill>
        <p:spPr>
          <a:xfrm>
            <a:off x="609480" y="2362320"/>
            <a:ext cx="2343240" cy="195264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4T15:28:00Z</dcterms:created>
  <dc:creator>schultzsam</dc:creator>
  <dc:description/>
  <dc:language>en-US</dc:language>
  <cp:lastModifiedBy>schultzsam</cp:lastModifiedBy>
  <dcterms:modified xsi:type="dcterms:W3CDTF">2012-03-28T18:07:48Z</dcterms:modified>
  <cp:revision>5</cp:revision>
  <dc:subject/>
  <dc:title>Mi impresionante Mansion!</dc:title>
</cp:coreProperties>
</file>